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3.jpeg" ContentType="image/jpeg"/>
  <Override PartName="/ppt/media/image2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27.jpeg" ContentType="image/jpeg"/>
  <Override PartName="/ppt/media/image26.jpeg" ContentType="image/jpeg"/>
  <Override PartName="/ppt/media/image19.png" ContentType="image/png"/>
  <Override PartName="/ppt/media/image25.png" ContentType="image/png"/>
  <Override PartName="/ppt/media/image1.jpeg" ContentType="image/jpeg"/>
  <Override PartName="/ppt/media/image4.wmf" ContentType="image/x-wmf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97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CD0E-1751-42DA-ADA5-3F29ECE7F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45BB-48D1-42ED-AEDA-86CF9D894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7275-CF06-4760-89ED-BE4D7EF0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0F4-1C20-477D-AEB6-D0CB485F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077E-5023-45EC-854C-DCDC317D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CE40-48F2-4D76-87EF-F1C46132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7BB-C279-4769-92E7-4F33765E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8ACB-5BD4-4956-9532-6060FCB7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52C4-6F4E-431E-8DCF-5B21DF1C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9EB7-D67A-46FE-A0D5-A7FACF09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BC61-AA8A-401E-AD47-30F704AF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7D02-6586-4133-B15D-9D941F61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35F2-E718-4096-A59D-EAB9A016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1619-7D55-4C29-A934-C9171BDC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97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49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497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497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BECB-B6F9-478A-88D6-74BC936193C2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en.wikipedia.org/wiki/Image:HONDA_ASIMO.jpg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robotex.ee/index.htm" TargetMode="External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ims.ut.ee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1244-8799-4FCE-8A7C-B47AC3534FC4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r>
              <a:rPr b="0" lang="et-EE" sz="1400" spc="-1" strike="noStrike">
                <a:solidFill>
                  <a:srgbClr val="00497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57200" y="4857480"/>
            <a:ext cx="64008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www.ims.ut.ee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Kontakt: Alvo Aabloo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500040" y="207144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Arukate materjalide ja seadmete labor</a:t>
            </a:r>
            <a:br>
              <a:rPr sz="4400"/>
            </a:b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Tartu Ülikool</a:t>
            </a:r>
            <a:br>
              <a:rPr sz="3200"/>
            </a:b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Tehnoloogiainstituut</a:t>
            </a:r>
            <a:br>
              <a:rPr sz="3200"/>
            </a:b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4400" spc="-1" strike="noStrike">
                <a:solidFill>
                  <a:srgbClr val="004974"/>
                </a:solidFill>
                <a:latin typeface="Arial"/>
              </a:rPr>
              <a:t>Online </a:t>
            </a: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näide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714920" y="19810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On särk M või L?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Kas särk on väiksem või modell suurem?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B67B-66C0-4C3F-8F19-F27856CED8CE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International-Male-2007-sma"/>
          <p:cNvPicPr/>
          <p:nvPr/>
        </p:nvPicPr>
        <p:blipFill>
          <a:blip r:embed="rId1"/>
          <a:stretch/>
        </p:blipFill>
        <p:spPr>
          <a:xfrm>
            <a:off x="299880" y="2071800"/>
            <a:ext cx="4181760" cy="3214440"/>
          </a:xfrm>
          <a:prstGeom prst="rect">
            <a:avLst/>
          </a:prstGeom>
          <a:ln w="0">
            <a:noFill/>
          </a:ln>
        </p:spPr>
      </p:pic>
      <p:sp>
        <p:nvSpPr>
          <p:cNvPr id="9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Ärilised väited 2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40% soovijatest ei leia või ei suuda leida endale standard ülerõivaste hulgast sobivat riietust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Rätsepaülikond on kallis ja liiga tüütu valmistamisprotseduuriga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4415-0DFD-4B15-BA7E-22C951F0AA33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Mudel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552840" y="-41623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F903-E455-4AAA-B324-ECDD7AF6F10A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C:\Users\alvo\AppData\Local\Microsoft\Windows\Temporary Internet Files\Content.IE5\JDNGCQZU\MPj04305060000[1].jpg"/>
          <p:cNvPicPr/>
          <p:nvPr/>
        </p:nvPicPr>
        <p:blipFill>
          <a:blip r:embed="rId2"/>
          <a:stretch/>
        </p:blipFill>
        <p:spPr>
          <a:xfrm>
            <a:off x="6500880" y="1928880"/>
            <a:ext cx="1209600" cy="1209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C:\home\alvo\doc\project\mannekeen\mann_pildimaterjalid\scanner.jpg"/>
          <p:cNvPicPr/>
          <p:nvPr/>
        </p:nvPicPr>
        <p:blipFill>
          <a:blip r:embed="rId3"/>
          <a:stretch/>
        </p:blipFill>
        <p:spPr>
          <a:xfrm>
            <a:off x="928800" y="4000680"/>
            <a:ext cx="2714400" cy="2073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:\Users\alvo\AppData\Local\Microsoft\Windows\Temporary Internet Files\Content.IE5\05P15F1B\MPj04372110000[1].jpg"/>
          <p:cNvPicPr/>
          <p:nvPr/>
        </p:nvPicPr>
        <p:blipFill>
          <a:blip r:embed="rId4"/>
          <a:stretch/>
        </p:blipFill>
        <p:spPr>
          <a:xfrm>
            <a:off x="4786200" y="4357800"/>
            <a:ext cx="171612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Users\alvo\AppData\Local\Microsoft\Windows\Temporary Internet Files\Content.IE5\JDNGCQZU\MPj04305060000[1].jpg"/>
          <p:cNvPicPr/>
          <p:nvPr/>
        </p:nvPicPr>
        <p:blipFill>
          <a:blip r:embed="rId5"/>
          <a:stretch/>
        </p:blipFill>
        <p:spPr>
          <a:xfrm>
            <a:off x="357120" y="1714680"/>
            <a:ext cx="1209600" cy="1209600"/>
          </a:xfrm>
          <a:prstGeom prst="rect">
            <a:avLst/>
          </a:prstGeom>
          <a:ln w="0">
            <a:noFill/>
          </a:ln>
        </p:spPr>
      </p:pic>
      <p:sp>
        <p:nvSpPr>
          <p:cNvPr id="104" name="Right Arrow 10"/>
          <p:cNvSpPr/>
          <p:nvPr/>
        </p:nvSpPr>
        <p:spPr>
          <a:xfrm>
            <a:off x="3714840" y="4786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ight Arrow 11"/>
          <p:cNvSpPr/>
          <p:nvPr/>
        </p:nvSpPr>
        <p:spPr>
          <a:xfrm rot="17923800">
            <a:off x="6458400" y="3516840"/>
            <a:ext cx="979560" cy="485640"/>
          </a:xfrm>
          <a:prstGeom prst="rightArrow">
            <a:avLst>
              <a:gd name="adj1" fmla="val 50000"/>
              <a:gd name="adj2" fmla="val 49959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ight Arrow 12"/>
          <p:cNvSpPr/>
          <p:nvPr/>
        </p:nvSpPr>
        <p:spPr>
          <a:xfrm rot="2644200">
            <a:off x="1312560" y="3068640"/>
            <a:ext cx="1009440" cy="485640"/>
          </a:xfrm>
          <a:prstGeom prst="rightArrow">
            <a:avLst>
              <a:gd name="adj1" fmla="val 50000"/>
              <a:gd name="adj2" fmla="val 4982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ooter Placeholder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Probleem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Rätsep tahab teha proovi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Miks? Traditsioonid, kangaste omadused, lõiked</a:t>
            </a:r>
            <a:endParaRPr b="0" lang="en-US" sz="2800" spc="-1" strike="noStrike">
              <a:solidFill>
                <a:srgbClr val="00497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Alternatiivid: 3D arvutisimulatsioon</a:t>
            </a:r>
            <a:endParaRPr b="0" lang="en-US" sz="2800" spc="-1" strike="noStrike">
              <a:solidFill>
                <a:srgbClr val="00497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9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Kangaste tootjad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28F5-F06E-45B3-A4B9-37434D19AFEC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Lahendus!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Mannekeen, kes võtab tellija kuju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35B6-78EA-4608-8BBE-BA8153483F49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7F51-3701-436B-8A8D-042A7457E7B4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Mannekeen_0710.wmv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1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10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Muud projektid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Turbidostaat. Seade bakteri kasvu kiiruse kontrollimiseks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Taimede õhulõhede juhtivuse ja fotosünteeesi jälgimise süsteem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RATS. Seade õppetegevuse efektiivseks hindamiseks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...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3096-4E99-425F-A9F5-70FF09D2DADB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Mis on robootika?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Mis on robot?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Karel Chapek</a:t>
            </a:r>
            <a:endParaRPr b="0" lang="en-US" sz="2800" spc="-1" strike="noStrike">
              <a:solidFill>
                <a:srgbClr val="00497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9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Töö raboota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497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4974"/>
                </a:solidFill>
                <a:latin typeface="Arial"/>
              </a:rPr>
              <a:t>Rab, ori</a:t>
            </a:r>
            <a:r>
              <a:rPr b="0" lang="et-EE" sz="2000" spc="-1" strike="noStrike">
                <a:solidFill>
                  <a:srgbClr val="00497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Masin, mis teeb ära inimese eest töö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8BBC-C8E1-49E0-A8F2-42DEEE594055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Kui inimene ütleb robot, mõtleb ta ...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06DF-DC8E-42AD-A496-CE245B8FBD1B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714240" y="1928880"/>
            <a:ext cx="1714680" cy="1933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onda's ASIMO, an example of a humanoid robo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57960" y="1785960"/>
            <a:ext cx="2381400" cy="3171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4"/>
          <a:stretch/>
        </p:blipFill>
        <p:spPr>
          <a:xfrm>
            <a:off x="2571840" y="3000240"/>
            <a:ext cx="3609720" cy="3114720"/>
          </a:xfrm>
          <a:prstGeom prst="rect">
            <a:avLst/>
          </a:prstGeom>
          <a:ln w="0">
            <a:noFill/>
          </a:ln>
        </p:spPr>
      </p:pic>
      <p:sp>
        <p:nvSpPr>
          <p:cNvPr id="133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Tööstusrobotid on 90%,aga!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Robootika areneb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Mõnedel hinnangutel järgmise 10 aasta jooksul 5korda</a:t>
            </a:r>
            <a:endParaRPr b="0" lang="en-US" sz="2800" spc="-1" strike="noStrike">
              <a:solidFill>
                <a:srgbClr val="00497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Kasutusvaldkonnad arenevad</a:t>
            </a:r>
            <a:endParaRPr b="0" lang="en-US" sz="28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8BCA-826C-4A74-B724-BEFCF89A03E7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IMS Tegevused (1/3)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Teadus 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Kunstlihased ja rakendused</a:t>
            </a:r>
            <a:endParaRPr b="0" lang="en-US" sz="2800" spc="-1" strike="noStrike">
              <a:solidFill>
                <a:srgbClr val="004974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Arendustegevus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Ettevõtusprojektid</a:t>
            </a:r>
            <a:endParaRPr b="0" lang="en-US" sz="2800" spc="-1" strike="noStrike">
              <a:solidFill>
                <a:srgbClr val="004974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Õppetöö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Robootika</a:t>
            </a:r>
            <a:endParaRPr b="0" lang="en-US" sz="2800" spc="-1" strike="noStrike">
              <a:solidFill>
                <a:srgbClr val="004974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Digitaalelektroonika</a:t>
            </a:r>
            <a:endParaRPr b="0" lang="en-US" sz="2800" spc="-1" strike="noStrike">
              <a:solidFill>
                <a:srgbClr val="004974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74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robootika projektid</a:t>
            </a:r>
            <a:endParaRPr b="0" lang="en-US" sz="28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B266-8D21-4B6E-B7F9-E8F5331C8AB6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Teenindus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139" name="Content Placeholder 4" descr="651px-Roomba_original.jpg"/>
          <p:cNvPicPr/>
          <p:nvPr/>
        </p:nvPicPr>
        <p:blipFill>
          <a:blip r:embed="rId1"/>
          <a:stretch/>
        </p:blipFill>
        <p:spPr>
          <a:xfrm>
            <a:off x="2340000" y="1981080"/>
            <a:ext cx="446400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1A7A-EAC3-4590-A172-4B6BE6AD9EA6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Abistamine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143" name="Content Placeholder 4" descr="HybridAssistiveLimbs50.jpg"/>
          <p:cNvPicPr/>
          <p:nvPr/>
        </p:nvPicPr>
        <p:blipFill>
          <a:blip r:embed="rId1"/>
          <a:stretch/>
        </p:blipFill>
        <p:spPr>
          <a:xfrm>
            <a:off x="642960" y="2357280"/>
            <a:ext cx="4352760" cy="2919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5000760" y="2357280"/>
            <a:ext cx="2019240" cy="2928960"/>
          </a:xfrm>
          <a:prstGeom prst="rect">
            <a:avLst/>
          </a:prstGeom>
          <a:ln w="0">
            <a:noFill/>
          </a:ln>
        </p:spPr>
      </p:pic>
      <p:sp>
        <p:nvSpPr>
          <p:cNvPr id="1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B8CC-E893-4A50-9593-15806FA459F3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Robotid meelelahutuseks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C0D3-8EC6-4334-BBBB-BDFA02609B61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6429240" y="41432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642960" y="1928880"/>
            <a:ext cx="3957480" cy="2023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642960" y="3929040"/>
            <a:ext cx="3929040" cy="2009880"/>
          </a:xfrm>
          <a:prstGeom prst="rect">
            <a:avLst/>
          </a:prstGeom>
          <a:ln w="0">
            <a:noFill/>
          </a:ln>
        </p:spPr>
      </p:pic>
      <p:sp>
        <p:nvSpPr>
          <p:cNvPr id="15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Haridus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747C-E23E-4901-9AF2-EA7DF3367740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STQ3nhXuuEM.avi" descr=""/>
          <p:cNvPicPr/>
          <p:nvPr/>
        </p:nvPicPr>
        <p:blipFill>
          <a:blip r:embed="rId1"/>
          <a:stretch/>
        </p:blipFill>
        <p:spPr>
          <a:xfrm>
            <a:off x="789120" y="1928880"/>
            <a:ext cx="3041640" cy="2286000"/>
          </a:xfrm>
          <a:prstGeom prst="rect">
            <a:avLst/>
          </a:prstGeom>
          <a:ln w="0">
            <a:noFill/>
          </a:ln>
        </p:spPr>
      </p:pic>
      <p:pic>
        <p:nvPicPr>
          <p:cNvPr id="156" name="0DMcB42GxWs.avi" descr=""/>
          <p:cNvPicPr/>
          <p:nvPr/>
        </p:nvPicPr>
        <p:blipFill>
          <a:blip r:embed="rId2"/>
          <a:stretch/>
        </p:blipFill>
        <p:spPr>
          <a:xfrm>
            <a:off x="4429080" y="30718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57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9873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9873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9367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Ohtlikud tööd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B3AB-4D72-4244-8A8E-8CFB70F05B79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mpBG-nSRcrQ.avi" descr=""/>
          <p:cNvPicPr/>
          <p:nvPr/>
        </p:nvPicPr>
        <p:blipFill>
          <a:blip r:embed="rId1"/>
          <a:stretch/>
        </p:blipFill>
        <p:spPr>
          <a:xfrm>
            <a:off x="2428920" y="2428920"/>
            <a:ext cx="4044960" cy="3033720"/>
          </a:xfrm>
          <a:prstGeom prst="rect">
            <a:avLst/>
          </a:prstGeom>
          <a:ln w="0">
            <a:noFill/>
          </a:ln>
        </p:spPr>
      </p:pic>
      <p:sp>
        <p:nvSpPr>
          <p:cNvPr id="1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79276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Robootika populariseerimine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AHHAA teaduskeskus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Koolirobootika projekt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Tiigrihüppe sihtasutus</a:t>
            </a:r>
            <a:endParaRPr b="0" lang="en-US" sz="28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A984-1BE0-4B22-A73A-D9A91B6920C0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2" descr="http://i17.ebayimg.com/05/i/001/06/fc/b67e_1_b.JPG"/>
          <p:cNvPicPr/>
          <p:nvPr/>
        </p:nvPicPr>
        <p:blipFill>
          <a:blip r:embed="rId1"/>
          <a:stretch/>
        </p:blipFill>
        <p:spPr>
          <a:xfrm>
            <a:off x="5572080" y="3143160"/>
            <a:ext cx="2381400" cy="2857680"/>
          </a:xfrm>
          <a:prstGeom prst="rect">
            <a:avLst/>
          </a:prstGeom>
          <a:ln w="0">
            <a:noFill/>
          </a:ln>
        </p:spPr>
      </p:pic>
      <p:sp>
        <p:nvSpPr>
          <p:cNvPr id="16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TÜ Robotiklubi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Koondada klubisse robootikast huvitatud tudengeid ja inimesi.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Omandada ja jagada robootika-alaseid kogemusi. 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Propageerida robootika-alast arendustegevust.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63D8-98E4-4036-A803-588536188DE3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974"/>
                </a:solidFill>
                <a:latin typeface="Arial"/>
              </a:rPr>
              <a:t>Robotex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172" name="Picture 6" descr="layerrobotblu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8120" y="46080"/>
            <a:ext cx="1924200" cy="1104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pilt_avaleht: "/>
          <p:cNvPicPr/>
          <p:nvPr/>
        </p:nvPicPr>
        <p:blipFill>
          <a:blip r:embed="rId3"/>
          <a:stretch/>
        </p:blipFill>
        <p:spPr>
          <a:xfrm>
            <a:off x="1187280" y="2492280"/>
            <a:ext cx="2953080" cy="2482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img01: "/>
          <p:cNvPicPr/>
          <p:nvPr/>
        </p:nvPicPr>
        <p:blipFill>
          <a:blip r:embed="rId4"/>
          <a:stretch/>
        </p:blipFill>
        <p:spPr>
          <a:xfrm>
            <a:off x="4356000" y="2540160"/>
            <a:ext cx="3672000" cy="245268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6A64-9570-483F-8CE7-F5628AF301D7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6B06-29A6-4994-9643-7C47138C390D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v4k_xvid.wmv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37277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3071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Tänan tähelepanu eest!</a:t>
            </a:r>
            <a:br>
              <a:rPr sz="4400"/>
            </a:br>
            <a:r>
              <a:rPr b="0" lang="et-EE" sz="4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ims.ut.ee</a:t>
            </a:r>
            <a:br>
              <a:rPr sz="4400"/>
            </a:b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Kontakt: Alvo Aabloo</a:t>
            </a:r>
            <a:br>
              <a:rPr sz="4400"/>
            </a:b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alvo@ut.ee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C02C-A4E5-4BBC-8C9E-7C6A055B277B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Teadus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Kunstlihased (elektroaktiivsed polümeerid)</a:t>
            </a:r>
            <a:endParaRPr b="0" lang="en-US" sz="2800" spc="-1" strike="noStrike">
              <a:solidFill>
                <a:srgbClr val="004974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49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Materjalid mis paisuvad või painduvad kui neile pinge (&lt;5V) rakendada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49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Miniatuursed täiturid, pehmed manipulaatorid, mikrovedelike kiibid, optika seadmed.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Robootika</a:t>
            </a:r>
            <a:endParaRPr b="0" lang="en-US" sz="2800" spc="-1" strike="noStrike">
              <a:solidFill>
                <a:srgbClr val="004974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49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Automaatjuhtimine/ </a:t>
            </a:r>
            <a:r>
              <a:rPr b="0" i="1" lang="et-EE" sz="2400" spc="-1" strike="noStrike">
                <a:solidFill>
                  <a:srgbClr val="004974"/>
                </a:solidFill>
                <a:latin typeface="Arial"/>
              </a:rPr>
              <a:t>Control theory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49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Riistvara disain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49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Ümbritsevad intelligentsed seadmed (</a:t>
            </a:r>
            <a:r>
              <a:rPr b="0" i="1" lang="et-EE" sz="2400" spc="-1" strike="noStrike">
                <a:solidFill>
                  <a:srgbClr val="004974"/>
                </a:solidFill>
                <a:latin typeface="Arial"/>
              </a:rPr>
              <a:t>Ambient Intelligence</a:t>
            </a: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4B63-E271-4080-B7F2-219B79AAC42F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Milleks saab tehislihaseid kasutada?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88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Biomimeetilised seadmed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Mikrovedelike juhtimine biomeditsiinilistes eksperimentides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Proteesid jt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Mikrorobotid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Targad kangad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aga…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858000" y="1428840"/>
            <a:ext cx="1673280" cy="1571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HybridAssistiveLimbs5a"/>
          <p:cNvPicPr/>
          <p:nvPr/>
        </p:nvPicPr>
        <p:blipFill>
          <a:blip r:embed="rId2"/>
          <a:stretch/>
        </p:blipFill>
        <p:spPr>
          <a:xfrm>
            <a:off x="6881760" y="4643280"/>
            <a:ext cx="2001960" cy="1501920"/>
          </a:xfrm>
          <a:prstGeom prst="rect">
            <a:avLst/>
          </a:prstGeom>
          <a:ln w="0">
            <a:noFill/>
          </a:ln>
        </p:spPr>
      </p:pic>
      <p:sp>
        <p:nvSpPr>
          <p:cNvPr id="6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9405-4A93-4328-8688-A53D997A95E0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4286160" y="3857760"/>
            <a:ext cx="2303640" cy="1547640"/>
          </a:xfrm>
          <a:prstGeom prst="rect">
            <a:avLst/>
          </a:prstGeom>
          <a:ln w="0">
            <a:noFill/>
          </a:ln>
        </p:spPr>
      </p:pic>
      <p:sp>
        <p:nvSpPr>
          <p:cNvPr id="6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Arendustegevus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Robootika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Arendusprojektid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pakume tuge teadmismahuka, kuid unikaalse aparatuuri loomiseks konkreetse projekti eesmärke silmas pidades</a:t>
            </a:r>
            <a:endParaRPr b="0" lang="en-US" sz="2800" spc="-1" strike="noStrike">
              <a:solidFill>
                <a:srgbClr val="004974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49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Unikaalse ja innovatiivse aparatuuri projekteerimine, konstrueerimine ning prototüübi tasemele arendamine. 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49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Vajadusel meeskonna komplekteerimine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B1DE-F355-4444-B4E7-643ABEA81CBF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Näide: Robotmannekeen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Inimese keha kuju matkiv seade rõivatööstusele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7B19-79DA-41AC-BA93-5D3B86BDADB4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Ärilised väited 1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Inimesed ei osta riideid </a:t>
            </a:r>
            <a:r>
              <a:rPr b="0" i="1" lang="et-EE" sz="3200" spc="-1" strike="noStrike">
                <a:solidFill>
                  <a:srgbClr val="004974"/>
                </a:solidFill>
                <a:latin typeface="Arial"/>
              </a:rPr>
              <a:t>online</a:t>
            </a: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, sest ei saa proovida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20-40% </a:t>
            </a:r>
            <a:r>
              <a:rPr b="0" i="1" lang="et-EE" sz="3200" spc="-1" strike="noStrike">
                <a:solidFill>
                  <a:srgbClr val="004974"/>
                </a:solidFill>
                <a:latin typeface="Arial"/>
              </a:rPr>
              <a:t>online</a:t>
            </a: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 ostudest tagastatakse valede mõõtude tõttu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Lõppmüüja kasum on a 10%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8943-4ED9-4F0D-8FB0-FFBDFF0C83F6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Rõivaste valmistajate väited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Eri tootjate suurusmärgistus on erinev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Eri tootjate/seeriate sobivus inimestele on erinev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Inimeste mõõtmed on regiooniti erinevad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D0D6-C126-46B4-93BB-6D38D2617C4F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493F-E519-4A84-BA39-8DB66E22E7A9}" type="slidenum"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C:\home\alvo\doc\project\mannekeen\mann_pildimaterjalid\BodyTypes.jpg"/>
          <p:cNvPicPr/>
          <p:nvPr/>
        </p:nvPicPr>
        <p:blipFill>
          <a:blip r:embed="rId2"/>
          <a:stretch/>
        </p:blipFill>
        <p:spPr>
          <a:xfrm>
            <a:off x="1500120" y="1784520"/>
            <a:ext cx="6980400" cy="428760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974"/>
                </a:solidFill>
                <a:latin typeface="Times New Roman"/>
              </a:rPr>
              <a:t>www.ims.ut.ee                                    alvo@ut.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7:38:14Z</dcterms:created>
  <dc:creator>Alvo Aabloo</dc:creator>
  <dc:description/>
  <dc:language>en-US</dc:language>
  <cp:lastModifiedBy>Alvo</cp:lastModifiedBy>
  <dcterms:modified xsi:type="dcterms:W3CDTF">2009-04-01T05:51:58Z</dcterms:modified>
  <cp:revision>25</cp:revision>
  <dc:subject/>
  <dc:title>Slide 1</dc:title>
</cp:coreProperties>
</file>